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F86-04C1-43F3-A104-91AC1B32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6D94-2F29-4C3C-ADE5-4A2D87F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87B-3381-499A-B21A-F4430918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C6E-4F67-4FD9-830C-8A218382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C746-9009-4F93-A490-DD2FCBA6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0272-EF05-4249-84C5-9FA46316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BD86-A229-4B5E-9B1A-05859CAF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EC28-8EE7-4C2F-80DD-5F30C882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E554-C00B-4A35-814F-24779E51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1DF3-2403-4D93-AA5D-38BC618E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9794-DB37-4214-945C-A7683E3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25C-C35F-4700-913D-C22F761B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587B-3F33-4127-A986-E61AC7FB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42FC-2978-4B7B-B1F0-139C957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3015-EDA2-4106-8DC6-7DD37149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DBB6-4E90-46DF-B6D8-EFDF0381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89B0-F84D-4BA4-A538-D1BC7794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63D-CB20-4AEA-9B9D-E91FB82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B45-DBDD-4D22-8BF9-B6C476B1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98A-98B7-47DA-B725-9CC1D0C2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329-139C-4B7E-97A9-74AB0C4E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76F-4FE6-4AE9-B6F7-6EF50070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292-C0BA-49D6-B847-4D52C76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A96-3542-4F11-92A9-7CCC54F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E111-880B-4294-9576-891DBB8DD1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3897-76EE-4908-8916-0F41663957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nakeeja grant and tori sh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ASCEND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OGING UP!!!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TEMPRATURE ON THE THERMOMETER IS GOGING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713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171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descend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Goging down….a picture of a thermometer temprature goging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86320" y="2952720"/>
            <a:ext cx="1713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NET P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WAGES AFTER DEDUCTIONS…MY PICTURE IS A SAD FACE BECAUSE NETPAY TAKES A LOT OF DEDUCTIONS…</a:t>
            </a:r>
            <a:r>
              <a:rPr b="0" lang="en-US" sz="3200" spc="-1" strike="noStrike">
                <a:solidFill>
                  <a:srgbClr val="3399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6:31Z</dcterms:created>
  <dc:creator>nakeeja.grant</dc:creator>
  <dc:description/>
  <dc:language>en-US</dc:language>
  <cp:lastModifiedBy>nakeeja.grant</cp:lastModifiedBy>
  <dcterms:modified xsi:type="dcterms:W3CDTF">2010-11-23T14:33:34Z</dcterms:modified>
  <cp:revision>2</cp:revision>
  <dc:subject/>
  <dc:title>ASCENDING</dc:title>
</cp:coreProperties>
</file>